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F25-6DE2-4FB5-8BDD-EC388F377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413-AC4F-4391-A397-BF15DA45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E816-1D2E-4B37-B7F1-C908E3B33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77C-43D2-44EC-89A2-6BDAC5600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D06F-92E7-496E-8418-D79ABBBF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EB27-A4C7-4FB7-9E7E-193156FD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CBD8-6EE2-4AE4-A289-D3400466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9706-99BD-4968-85A6-C139A97A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AB60-9E04-412D-8BCB-407D4067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DA25-3023-4D26-A543-E452F0E2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8C7-CB0C-4611-B45A-93E84FEF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B49-2CC6-4D30-A458-7C4A19AC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B0AB-84AB-4951-9149-5B652B1B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1EF1-8C4C-4AF9-AD95-D02BEB9E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E8AD-A436-43B2-84DC-7B8D9A864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EE3AF-0954-43EE-BB30-ED7F6983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495C4-7569-4889-93EB-B54AFB750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712-EC95-4BDB-9A9A-74EEC537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8431-C86D-40D4-9234-7C01FBFD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D62C-AFAA-415B-B3DD-BF77ED58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50B1-3E6D-411C-9016-42950B2D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4327-06D5-4BD1-A92A-285401A7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D91-BEFD-4704-9F14-DAF8B6DB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D344-22B3-4C01-83F1-20DCE374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62F5-A59A-4EAC-8AB6-52F11D286BA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C454-0048-47B3-AEA9-278B54497B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jordandistrict.org/" TargetMode="External"/><Relationship Id="rId2" Type="http://schemas.openxmlformats.org/officeDocument/2006/relationships/hyperlink" Target="http://www.jordandistrict.org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9144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66"/>
                </a:solidFill>
                <a:latin typeface="SquireD"/>
              </a:rPr>
              <a:t>Internet Vocabulary</a:t>
            </a:r>
            <a:endParaRPr b="0" lang="en-US" sz="7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523880" y="29718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TE Intro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5197" r="0" b="0"/>
          <a:stretch/>
        </p:blipFill>
        <p:spPr>
          <a:xfrm>
            <a:off x="2819520" y="3809880"/>
            <a:ext cx="3657600" cy="26002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URL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“address” of a website. Entering this address in the Address Bar will take you directly to a particular websit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Ex: </a:t>
            </a:r>
            <a:r>
              <a:rPr b="0" lang="en-US" sz="29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www.google.com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arning: Do NOT type in an address if you aren’t sure it exists. You might see something you didn’t intend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-2077" r="37502" b="88547"/>
          <a:stretch/>
        </p:blipFill>
        <p:spPr>
          <a:xfrm>
            <a:off x="1447920" y="5410080"/>
            <a:ext cx="60958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WWW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World Wide Web – not all websites are on the World Wide Web, but most will require it in order to get in. Most websites begin with: http://www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Brows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6838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program that allows you to interact with interne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This is what you click on to get to the internet. There are several popular browsers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xplor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etscap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refox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495680" y="4267080"/>
            <a:ext cx="1295640" cy="116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6516720" y="4251240"/>
          <a:ext cx="1092240" cy="1074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16720" y="4251240"/>
                    <a:ext cx="1092240" cy="10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7543800" y="4267080"/>
            <a:ext cx="12193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" dur="2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Search Engin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owerful servers that keep an index of information on the Internet</a:t>
            </a:r>
            <a:r>
              <a:rPr b="0" i="1" lang="en-US" sz="29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oog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Yaho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sk.com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43000" y="5029200"/>
            <a:ext cx="3124080" cy="777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343400" y="2895480"/>
            <a:ext cx="3048120" cy="1184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11464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Network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network is a number of computers connected together to share information and hardware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Local Area Network (LAN) is small, perhaps a few computers sharing a printer. A Wide Area Network (WAN) is large, with many computers linked between towns or countries. The Internet is a network of networks that circles the globe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Serv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computer that delivers information and software to other computers linked by a network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ll websites must be uploaded to a server in order to be seen by the public on the website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HTML Co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 code language used to create websites on the internet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Websites look very different when you see only the code. Every command has a code, such as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&lt;a href&gt;http://www.yahoo.com&lt;/a&gt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the code for making a link to yaho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Let’s look at some more codes!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  <a:hlinkClick r:id="rId1"/>
              </a:rPr>
              <a:t>http://</a:t>
            </a:r>
            <a:r>
              <a:rPr b="0" lang="en-US" sz="2100" spc="-1" strike="noStrike" u="sng">
                <a:solidFill>
                  <a:srgbClr val="006666"/>
                </a:solidFill>
                <a:uFillTx/>
                <a:latin typeface="Verdana"/>
                <a:hlinkClick r:id="rId2"/>
              </a:rPr>
              <a:t>www.jordandistrict.or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SquireD"/>
              </a:rPr>
              <a:t>Searching the Interne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You will now learn to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Find good information on the interne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arch for imag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ave images to your compute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14:01:42Z</dcterms:created>
  <dc:creator>Megan.Rees</dc:creator>
  <dc:description/>
  <dc:language>en-US</dc:language>
  <cp:lastModifiedBy>Megan.Rees</cp:lastModifiedBy>
  <dcterms:modified xsi:type="dcterms:W3CDTF">2007-08-30T15:34:36Z</dcterms:modified>
  <cp:revision>7</cp:revision>
  <dc:subject/>
  <dc:title>Internet Vocabulary</dc:title>
</cp:coreProperties>
</file>